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192-9EDD-42F4-8700-C7086983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CAD-7BF3-470D-A832-97A2CE4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DC1-4A2A-4A53-BC1E-BE6CB63A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10D-5E64-4498-997C-61D340FD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F57-CFDA-4C86-BD79-6D68352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CC7-35C5-40BC-9153-2FEF269B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337-7503-4D15-AD2C-C31BDD3F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A17-3284-4A70-AE2B-6D3AFC7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E5A-C88F-4289-911A-B0AF6D4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7F6-39B5-4A98-BEB8-FD7CAED8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C0F-97F5-42F1-948E-6494504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B36-94CB-4134-9D02-D95E00A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262-120E-4778-ACF6-BF9864375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1324;%B4%CC&#625;%CB&#957;%CC%C8%CA&amp;in=25833&amp;cl=2&amp;lm=-1&amp;pn=10&amp;rn=1&amp;di=593602935&amp;ln=1&amp;fr=&amp;ic=0&amp;s=&amp;se=&amp;sme=0&amp;tab=&amp;width=&amp;height=&amp;face=0&amp;fb=0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922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第八课     辛亥革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53680" y="1484280"/>
            <a:ext cx="606960" cy="5184720"/>
          </a:xfrm>
          <a:prstGeom prst="rect">
            <a:avLst/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辛亥革命》拍摄为载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276640"/>
            <a:ext cx="6985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导演成龙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背景与经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213000"/>
            <a:ext cx="7885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编剧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的结果、意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134136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191628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色体验二：如果你是编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辛亥革命的结果、意义、局限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860640"/>
            <a:ext cx="76201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难题：辛亥革命是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成功还是失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你会如何来写作呢？结合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内容来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70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材料一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亥革命千年未有之变局，以暴力推翻了帝制，代之以民国，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历史打上了一个铁和血的铸成的句号。只有漫长的历史才能称量出这个句号的真正意义和重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旭麓《近代中国社会的新陈代谢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材料二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中山就曾经是一个被人家看作是疯子的人。相反在辛亥革命以后，如果有人想做皇帝或者拥护别人做皇帝，一定也被看作疯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三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时政府鼓励华侨来华投资，成立实业部，颁布一些鼓励资本主义发展的措施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民族工业新建厂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，投资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，加上原有企业扩建投资，新增资本至少有一亿三四千万元左右，相当于此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投资的总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民有言论、集会出版、选举、参政等权利革除大人、老爷的称呼，禁止刑讯、买卖人口，宣扬公民道德，采用民国新编教科书 、禁止裹脚、剪辫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问题设计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：根据四则材料分析辛亥革命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政治、经济、思想、风俗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上功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242100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：它推翻了清王朝，结束了中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的封建君主专制政体，建立起资产阶级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济：推动了中国民族资本主义的发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想：民主共和观念深入人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：推动社会生活习俗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5680" y="1609560"/>
            <a:ext cx="1598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24280"/>
            <a:ext cx="64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437000"/>
            <a:ext cx="93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789360"/>
            <a:ext cx="17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9280" y="3933720"/>
          <a:ext cx="3529080" cy="2590920"/>
        </p:xfrm>
        <a:graphic>
          <a:graphicData uri="http://schemas.openxmlformats.org/drawingml/2006/table">
            <a:tbl>
              <a:tblPr/>
              <a:tblGrid>
                <a:gridCol w="1224000"/>
                <a:gridCol w="11527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江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宪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宪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安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宪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广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旧官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福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旧官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宪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79280" y="692280"/>
          <a:ext cx="3529080" cy="3255840"/>
        </p:xfrm>
        <a:graphic>
          <a:graphicData uri="http://schemas.openxmlformats.org/drawingml/2006/table">
            <a:tbl>
              <a:tblPr/>
              <a:tblGrid>
                <a:gridCol w="1217880"/>
                <a:gridCol w="1185840"/>
                <a:gridCol w="112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 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独立省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推动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湖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陕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云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江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浙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盟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16360" y="836640"/>
            <a:ext cx="35276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注：山东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巡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宝琦宣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天后又取消独立。江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巡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德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断瓦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示革命必须破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3573360"/>
            <a:ext cx="4464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问题设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以上材料可以看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革命的力量组成上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存在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5157720"/>
            <a:ext cx="4716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立宪派和旧官僚投机革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潜伏着严重的危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07920"/>
            <a:ext cx="8839080" cy="381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民国三年，戴季陶遇见一个老农，因戴氏身着日本服装，老农遂问其国籍。戴称“予中华民国人也”。老农“忽作惊状，似绝不解中华民国为何物者”。当戴氏告诉老农“你也是中华民国人”时，老农茫然惶然，连声说：“我非革命党，我非中华民国人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3933720"/>
            <a:ext cx="842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问题设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材料中反映了辛亥革命什么局限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661000"/>
            <a:ext cx="403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群众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557360"/>
            <a:ext cx="3657600" cy="3317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940360" y="836640"/>
            <a:ext cx="2797200" cy="324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5661000"/>
            <a:ext cx="43434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问题设计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：这两张图片说明什么呢？（局限性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4880" y="2060640"/>
            <a:ext cx="5461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袁世凯称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221000"/>
            <a:ext cx="3168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心要搞民主政治国民党理事长宋教仁被袁刺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013360"/>
            <a:ext cx="345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袁世凯的所作所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907920"/>
            <a:ext cx="358164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政治任务完成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5373720"/>
            <a:ext cx="460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帝反封的任务没有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0880" y="1295280"/>
            <a:ext cx="606960" cy="50292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辛亥革命》拍摄为载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98612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导演成龙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背景与经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976480"/>
            <a:ext cx="74674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编剧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的结果、意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04352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顾问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的精神品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1253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色体验三：如果你顾问？（辛亥革命的精神遗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997360"/>
            <a:ext cx="8496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位顾问，导演拍《辛亥革命》，现有一难题！选择怎样的情节来刻画孙中山精神与品质，让人感动催人奋进，你根据史实来制造催泪弹吧！让我们一起为导演想想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1341360"/>
            <a:ext cx="8964720" cy="32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孙中山为防止袁专权颁布《临时约法》，随后为了国家统一将总统位置让给袁世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十三条 临时大总统得制定官制官规，但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须提交参议院议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十五条 临时大总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经参议院之同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得宣战媾和及缔结条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十五条 国务员于临时大总统提出法律案公布法律及发布命令时须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副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十一条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法官独立审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受上级官厅之干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问题设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《临时约法》如何体现孙中山的良苦用心？孙中山是借鉴了哪些西方的优秀的政治原则的？这能体现孙中山什么情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692280"/>
            <a:ext cx="144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顾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6021360"/>
            <a:ext cx="3888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权分立　责任内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4360" y="4218120"/>
            <a:ext cx="395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060640"/>
            <a:ext cx="84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5157720"/>
            <a:ext cx="617220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汉市今年开始修建辛亥革命纪念碑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高，四棱柱性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6329520"/>
            <a:ext cx="4648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1197000"/>
            <a:ext cx="54738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03280" y="1052640"/>
            <a:ext cx="7086600" cy="37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找到一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中山的一生使用空手道，没有多少钱，没有地盘，没有自家的军队，愣要打江山，往往功败垂成，为国事奔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年，毕生学力尽瘁于斯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精诚无间，百折不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满清之威力所不能屈，穷途之困苦所不能扰，其向所志，一往无前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越挫越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接再厉。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凰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设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快想想这里能体现孙中山先生什么优良品质？成长在和平时期我们怎么为国效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052640"/>
            <a:ext cx="165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顾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70880" y="1295280"/>
            <a:ext cx="606960" cy="50292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辛亥革命》拍摄为载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213372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导演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背景与经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895480"/>
            <a:ext cx="7162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编剧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的结果、意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66228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顾问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者的精神品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58136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推广策划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复习和回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143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色体验四：如果你是电影推广策划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924280"/>
            <a:ext cx="784872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会选择哪里首映呢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32000" y="170028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23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课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00280"/>
            <a:ext cx="7416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朝末年的危机和新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革命运动的发展和同盟会的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产阶级革命形势的发展         革命派和立宪派的论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革命党人发动武装起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武昌起义和湖北军政府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武昌起义及其对全国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革命形势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华民国的建立和《临时约法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民国的建立和帝制的终结          袁世凯获得总统宝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辛亥革命的历史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1916280"/>
            <a:ext cx="297000" cy="1296720"/>
          </a:xfrm>
          <a:custGeom>
            <a:avLst/>
            <a:gdLst>
              <a:gd name="textAreaLeft" fmla="*/ 189720 w 297000"/>
              <a:gd name="textAreaRight" fmla="*/ 297360 w 297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995640" y="357264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67280" y="5229360"/>
            <a:ext cx="217440" cy="1079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981000"/>
            <a:ext cx="338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792000"/>
            <a:ext cx="9144000" cy="6166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0" y="295596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292640"/>
            <a:ext cx="45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57360"/>
            <a:ext cx="889308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右图为纪念辛亥革命的邮票，图案是孙中山先生就任中华民国临时大总统时的肖像。肖像的左侧，辅以孙中山亲笔题词墨迹：“世界潮流，浩浩荡荡，顺之则昌，逆之则亡。”以下关于孙中山一生奋斗的业绩，叙述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为推翻清王朝的统治，领导、发动武昌起义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为防止袁世凯独裁，颁布了《中华民国约法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为推动民主革命发展，提出了新三民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为完成反帝反封建任务，领导了北伐战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020000" y="2637000"/>
            <a:ext cx="1790640" cy="134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6360" y="620640"/>
            <a:ext cx="1933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习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08640"/>
            <a:ext cx="468360" cy="5047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40360" y="44280"/>
            <a:ext cx="45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课     辛亥革命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95596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479600"/>
            <a:ext cx="88200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众以为清室退位，即天下事大定，所谓‘民国共和’则取得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未有之名义而已。  至其实质如何，都非所问。“这说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068640"/>
            <a:ext cx="8064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辛亥革命具有坚实的群众基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文化运动具有历史必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民革命结束了君主专制制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主立宪制得到民众的普遍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00280"/>
            <a:ext cx="433440" cy="5050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295596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50840"/>
            <a:ext cx="9144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   孙中山是中国近代政治文明——共和制的重要催生人。他的学说是“内审中国之情势，外察世界之流，兼收众长，益以创新”。     ——《中华文明史》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材料一，说明孙中山的学说的形成体现了怎样的特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所学知识，你如何理解孙中山是中国“共和制的重要催生人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869000"/>
            <a:ext cx="835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点：将西方的三权分立学说与中国国情结合。举例：孙中山的民生主义（即社会革命思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4218120"/>
            <a:ext cx="395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060640"/>
            <a:ext cx="849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149720"/>
            <a:ext cx="8458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发生的辛亥革命，距今已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今天我们将一起来接近、触摸辛亥革命，寻找、反思近百年来中国与中国人的变与不变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56163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3573360"/>
            <a:ext cx="1143000" cy="152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907920"/>
            <a:ext cx="5181480" cy="116928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不忘却的纪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纪念辛亥革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年为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3320" y="1828800"/>
            <a:ext cx="606960" cy="50292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辛亥革命》拍摄为载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51460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导演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背景与经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048120"/>
            <a:ext cx="701064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编剧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的结果、意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114800"/>
            <a:ext cx="6629400" cy="246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推广策划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复习和回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3573360"/>
            <a:ext cx="6629400" cy="181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顾问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革命者的精神品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7680" y="1197000"/>
            <a:ext cx="606960" cy="50292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影《辛亥革命》拍摄为载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52640"/>
            <a:ext cx="66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你是导演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革命背景与经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162864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8763120" cy="38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片头：为了让观众迅速的回到历史中，需要在片头简要交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历史背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你觉得该如何简单介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地点问题：你会选择哪几个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城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拍摄的取景地，分别拍什么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道具准备：哪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历史文献、公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临摹？哪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旗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制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演员问题：需要哪些演员？广东著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辛亥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剧本解读：整体把握辛亥革命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背景和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907920"/>
            <a:ext cx="6477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色体验一：如果你是导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辛亥革命的背景与经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51920" y="1052640"/>
            <a:ext cx="568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445000"/>
            <a:ext cx="676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19700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07920"/>
            <a:ext cx="6553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（背景经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773360"/>
            <a:ext cx="78483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辛丑条约》签订后，帝国主义加强了对中国的控制和掠夺，民族危机空前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70200" y="2997360"/>
            <a:ext cx="7273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068640"/>
            <a:ext cx="8820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政府内外交困，试图通过新政来挽救统治危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149720"/>
            <a:ext cx="828036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孙中山为首的资产阶级革命党人成立兴中会等革命团体，决心推翻清王朝，建立资产阶级共和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437000"/>
            <a:ext cx="874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365720"/>
            <a:ext cx="82090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同盟会纲领                《中华民国临时约法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色旗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代皇帝退位诏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589720"/>
            <a:ext cx="896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孙中山、廖仲恺、熊秉坤、秋瑾、陆皓东、林觉民     等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5000"/>
            <a:ext cx="741672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檀香山 兴中会的成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日本东京同盟会的成立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广州黄花岗起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武昌起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南京国民政府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北京清帝溥仪退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170028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93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700280"/>
            <a:ext cx="7416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朝末年的危机和新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革命运动的发展和同盟会的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产阶级革命形势的发展         革命派和立宪派的论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革命党人发动武装起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武昌起义和湖北军政府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武昌起义及其对全国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革命形势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华民国的建立和《临时约法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民国的建立和帝制的终结          袁世凯获得总统宝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辛亥革命的历史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05280" y="1052640"/>
            <a:ext cx="172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辛亥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1916280"/>
            <a:ext cx="297000" cy="1296720"/>
          </a:xfrm>
          <a:custGeom>
            <a:avLst/>
            <a:gdLst>
              <a:gd name="textAreaLeft" fmla="*/ 189720 w 297000"/>
              <a:gd name="textAreaRight" fmla="*/ 297360 w 297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995640" y="357264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67280" y="5229360"/>
            <a:ext cx="217440" cy="1079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02:12Z</dcterms:created>
  <dc:creator/>
  <dc:description/>
  <dc:language>en-US</dc:language>
  <cp:lastModifiedBy>User</cp:lastModifiedBy>
  <dcterms:modified xsi:type="dcterms:W3CDTF">2014-12-13T06:01:28Z</dcterms:modified>
  <cp:revision>112</cp:revision>
  <dc:subject/>
  <dc:title>幻灯片 1</dc:title>
</cp:coreProperties>
</file>